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6CA-A0D0-4B32-BD2C-9E04DB3A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B93-017E-4E60-8516-4084ADC3D0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335-453B-4622-878D-92157D5F5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958-3559-4FB6-BA89-92527A20D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FA9-9F90-4715-B53B-C2705CF64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3642-7FFD-4A0B-AC24-4BA916F58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5E8-CF82-4233-9967-FA0DEE1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132-78AD-4E40-BE18-0A72875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70A-A77C-4C30-A5B4-C4AF233C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9B8-4151-469B-8BBE-F3EE1079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0A4F-3C5E-4097-9326-5D2BCFBA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F7311-279A-45FF-A0BD-8447815E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55D77-5D5C-4B97-BABD-23DF078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B6AE-0CB1-4F49-9FED-EEFAE94E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3544-13D1-4F9D-8A95-FF482C1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3471-C704-4E34-874E-4B1227E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0C85D-A95D-4F16-A1FE-FECB23F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72B-DD14-4BB4-8CF0-7561F84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2614-186F-4A3E-9F44-5042089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877B9-04BB-450D-B0B5-852FA9C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4945-741A-4E2E-A7BC-F175136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8F7A5-8402-4CD0-BAF2-49656631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68E8D-0993-4713-A010-FBC40F96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212-08EB-43DF-8696-0950735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847-EA5D-4D6C-BA6A-6A283D4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10C-2310-424A-B757-0FF5CAF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1C7-8BCF-4B55-A649-4360B42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E61-EE51-4783-8CE5-546394C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8A6-197B-4350-8DDD-502F3C3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397-07F4-4859-8E65-63236D7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DCC-25DE-4F63-AC5C-CB8FA6CC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19C-A687-4FF6-9554-305770024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ag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ief Overview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YMB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 object, person, place or experience that means more than what it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MCj03871600000[1]"/>
          <p:cNvPicPr/>
          <p:nvPr/>
        </p:nvPicPr>
        <p:blipFill>
          <a:blip r:embed="rId1"/>
          <a:stretch/>
        </p:blipFill>
        <p:spPr>
          <a:xfrm>
            <a:off x="2666880" y="32004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MAG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“word pictures” that writers create to help evoke an emotional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riters u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sensory detail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, or descriptions that appeal to one or more of the five senses: sight, hearing, touch, taste, and smell.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4736520" y="914400"/>
            <a:ext cx="4091400" cy="5638680"/>
            <a:chOff x="4736520" y="914400"/>
            <a:chExt cx="4091400" cy="5638680"/>
          </a:xfrm>
        </p:grpSpPr>
        <p:pic>
          <p:nvPicPr>
            <p:cNvPr id="98" name="Picture 4" descr="MCHM00279_0000[1]"/>
            <p:cNvPicPr/>
            <p:nvPr/>
          </p:nvPicPr>
          <p:blipFill>
            <a:blip r:embed="rId1"/>
            <a:stretch/>
          </p:blipFill>
          <p:spPr>
            <a:xfrm>
              <a:off x="4876920" y="914400"/>
              <a:ext cx="182880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MCHM00374_0000[1]"/>
            <p:cNvPicPr/>
            <p:nvPr/>
          </p:nvPicPr>
          <p:blipFill>
            <a:blip r:embed="rId2"/>
            <a:stretch/>
          </p:blipFill>
          <p:spPr>
            <a:xfrm>
              <a:off x="6934320" y="1143000"/>
              <a:ext cx="1635120" cy="21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MCj01975880000[1]"/>
            <p:cNvPicPr/>
            <p:nvPr/>
          </p:nvPicPr>
          <p:blipFill>
            <a:blip r:embed="rId3"/>
            <a:stretch/>
          </p:blipFill>
          <p:spPr>
            <a:xfrm rot="1860000">
              <a:off x="4800240" y="2971440"/>
              <a:ext cx="368928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2" descr="MCPE02758_0000[1]"/>
            <p:cNvPicPr/>
            <p:nvPr/>
          </p:nvPicPr>
          <p:blipFill>
            <a:blip r:embed="rId4"/>
            <a:stretch/>
          </p:blipFill>
          <p:spPr>
            <a:xfrm>
              <a:off x="4876920" y="4572000"/>
              <a:ext cx="198108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3" descr="MCHM00388_0000[1]"/>
            <p:cNvPicPr/>
            <p:nvPr/>
          </p:nvPicPr>
          <p:blipFill>
            <a:blip r:embed="rId5"/>
            <a:stretch/>
          </p:blipFill>
          <p:spPr>
            <a:xfrm>
              <a:off x="7238880" y="4952880"/>
              <a:ext cx="158904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IMI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figure of speech us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o compare seemingly unlik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The corn was as high as an elephant’s ey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533520" y="3657600"/>
            <a:ext cx="4832280" cy="2809800"/>
            <a:chOff x="533520" y="3657600"/>
            <a:chExt cx="4832280" cy="2809800"/>
          </a:xfrm>
        </p:grpSpPr>
        <p:pic>
          <p:nvPicPr>
            <p:cNvPr id="106" name="Picture 4" descr="MCj02791640000[1]"/>
            <p:cNvPicPr/>
            <p:nvPr/>
          </p:nvPicPr>
          <p:blipFill>
            <a:blip r:embed="rId2"/>
            <a:stretch/>
          </p:blipFill>
          <p:spPr>
            <a:xfrm>
              <a:off x="533520" y="3657600"/>
              <a:ext cx="2125440" cy="28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" descr="MCj03013020000[1]"/>
            <p:cNvPicPr/>
            <p:nvPr/>
          </p:nvPicPr>
          <p:blipFill>
            <a:blip r:embed="rId3"/>
            <a:stretch/>
          </p:blipFill>
          <p:spPr>
            <a:xfrm>
              <a:off x="2867040" y="3733920"/>
              <a:ext cx="2498760" cy="26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7"/>
          <p:cNvSpPr/>
          <p:nvPr/>
        </p:nvSpPr>
        <p:spPr>
          <a:xfrm>
            <a:off x="5943600" y="3809880"/>
            <a:ext cx="2590920" cy="265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mean really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o corn and 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ephant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YTHING in comm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TAPH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ares two or more things NOT using “like” or “as”.  In contrast to a simile, a metaph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impli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he comparison instead of stating it dire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e’s a bear when he’s angr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MCj03826100000[1]"/>
          <p:cNvPicPr/>
          <p:nvPr/>
        </p:nvPicPr>
        <p:blipFill>
          <a:blip r:embed="rId1"/>
          <a:stretch/>
        </p:blipFill>
        <p:spPr>
          <a:xfrm>
            <a:off x="5562720" y="3657600"/>
            <a:ext cx="285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APHORS do NOT use “like” or “a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Let’s practice with #1-6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rinter is a(n) _______________ when she ru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rinters are _____________ when they r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t man is such a(n) ________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400 pound man is fatter than a(n) _____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o your neighbor and creat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taph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d upon their appearance or personality (NO NEGATIVE COMMENT, PLEA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o yourself and creat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taph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d upon your appearance or person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ERSON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figure of speech in which an animal, object, force of nature, or idea is given human qualities or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The shad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crept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lo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hallw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My shad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follow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l the way ho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My do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begg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me to fe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The tre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danc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in the wi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MCj01977150000[1]"/>
          <p:cNvPicPr/>
          <p:nvPr/>
        </p:nvPicPr>
        <p:blipFill>
          <a:blip r:embed="rId1"/>
          <a:stretch/>
        </p:blipFill>
        <p:spPr>
          <a:xfrm>
            <a:off x="5181480" y="3276720"/>
            <a:ext cx="37674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21:09:41Z</dcterms:created>
  <dc:creator>April Baker</dc:creator>
  <dc:description/>
  <dc:language>en-US</dc:language>
  <cp:lastModifiedBy>Mcadwell</cp:lastModifiedBy>
  <dcterms:modified xsi:type="dcterms:W3CDTF">2011-10-24T23:21:25Z</dcterms:modified>
  <cp:revision>19</cp:revision>
  <dc:subject/>
  <dc:title>Literary Terms</dc:title>
</cp:coreProperties>
</file>